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11B6-A227-4EDE-93BA-25EF266C8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414D-B712-4675-8B95-4AE73C7C2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54BD-C4F7-4C5E-8321-8D345F9B2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6F11-1690-4C00-9855-056CEA13D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A1C2-AAE9-4144-97A1-546B30DE6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95E02-4D56-4117-B73A-8EBC8965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7C335-1E19-4028-80A8-FCE7C3B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3A33E-8167-454B-BABD-05CCEE3E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F5C9-D990-437C-8BB7-01CD16C5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CDEB-77AF-4581-BCA3-97AF061E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35F6-3AB2-4D30-8D4F-A5DB59B0DB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F16EB-2120-4157-8FDB-258DA8C7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F7892-1381-44EB-AFCF-D10DCD6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0F0D2-D91F-4156-92E2-76F9BC1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E92D1-1296-4B75-BF2E-17F76DB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12343-1266-4FD9-AA87-CF173AB5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2C0C4-FC78-4300-937C-A5B208D2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7AB23-F9C2-4493-8A14-35DFD0FC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B9D7D-9FB1-472B-B6D7-08F24860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51000C-3148-4B54-90C4-44B5741A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52C87-ED43-411E-A365-BBA070BA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0046-8F00-4963-9127-69A9A3D1C5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1911F-1021-4637-83C9-917A4FD2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85DDD2-EB54-4288-BD15-0BE5D47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C9A95-E5C2-4ABF-85CD-89969594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348C3-C028-4158-8C62-A5C30B1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EB690-7D30-4886-B92F-B34FC57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0D452-FC9E-4C47-ACE4-FDD5B876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5B852-18B1-4ED1-81A2-637E2888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11A00-D94F-4D49-928B-32B74C06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BC83F-503A-42A0-B540-96F5D90E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73AA3-01C9-4A7D-9129-2186C8D1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A2D2-15D2-4A0F-9A06-EF7DBDFA89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F6AAA-CD24-4331-8C49-C5CC2C30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9B57E-3C74-49B5-8B1C-1F04EC6B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84407-90DB-4CCB-9298-6446A729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21C85-3342-4F42-802F-95FC0105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96CB7-5625-4200-BEEA-629BC121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AFB83-7FC4-469E-9F1C-A0CBC32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49A19-E4B5-4E5E-88BB-25A5B4D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2A269-EACE-43F0-A709-9F5439C3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33C68-ED6C-4F6F-8439-837B513E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31E86-5190-4710-A862-933B65DE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81B4-94C5-4BEF-AE9A-5A0729BB4D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37730-7445-4971-9A25-75B05307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B449-B54B-4502-9FDA-B924EB045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26D5-E366-4A43-8D09-2249B1390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A080-B20D-4F11-B37B-78382A7FF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012C-1433-4AF9-BB6D-1497BBFAF66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D52E-DB96-4505-B8B6-A2AE145E9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5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8824-72D9-4135-AC01-177D83E2D7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EFA6-7AB3-44B7-AE1D-186436723A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981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 Going with a Smartboar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9096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all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heigh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distance and mark on flo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will take turns in small groups connecting the three de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active Whitebo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f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9132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day we have learned about the different cables and how they are used to set up our projectors with the Interactive Whiteboards and our mobile de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steps did we find to be most difficult and how can we remember to complete them to have our projector working properl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set up my projector and interactive whiteboar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set up our projectors and interactive whiteboards by looking at their connections and the ports they are associated wit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ower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provides power for our projecto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 cable that will be used every time you use your projec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GB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referred to as a VGA c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two large blue ports on either 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nother cable that will be used all the ti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s from the computer to the project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s the projector to project the image on your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have no image being projected this is the first cable to chec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SB C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cable connects your computer to the Interactive whiteboar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whiteboard is a USB devic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gets its power from your compute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teboard Power C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s power to the speakers, not the 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proje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ca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the ports for the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8T16:29:05Z</dcterms:modified>
  <cp:revision>9</cp:revision>
  <dc:subject/>
  <dc:title>Get Going With iProject-Interactive Whiteboard-OOTB </dc:title>
</cp:coreProperties>
</file>